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842508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1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作業スケジュール（１年）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6" name=""/>
          <p:cNvSpPr/>
          <p:nvPr/>
        </p:nvSpPr>
        <p:spPr>
          <a:xfrm>
            <a:off x="1424880" y="51264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シンプルな作業スケジュール表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800" y="1111320"/>
            <a:ext cx="2233800" cy="73980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5800" y="1847880"/>
            <a:ext cx="2233800" cy="74124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800" y="2585880"/>
            <a:ext cx="2233800" cy="74304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5800" y="3328920"/>
            <a:ext cx="2233800" cy="74628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5800" y="4071960"/>
            <a:ext cx="2233800" cy="74124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5800" y="4795920"/>
            <a:ext cx="2233800" cy="74124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5800" y="5533920"/>
            <a:ext cx="2233800" cy="74304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15800" y="800280"/>
            <a:ext cx="9087120" cy="5508360"/>
            <a:chOff x="415800" y="800280"/>
            <a:chExt cx="9087120" cy="5508360"/>
          </a:xfrm>
        </p:grpSpPr>
        <p:sp>
          <p:nvSpPr>
            <p:cNvPr id="65" name=""/>
            <p:cNvSpPr/>
            <p:nvPr/>
          </p:nvSpPr>
          <p:spPr>
            <a:xfrm>
              <a:off x="2649600" y="1111320"/>
              <a:ext cx="6840360" cy="5186160"/>
            </a:xfrm>
            <a:prstGeom prst="rect">
              <a:avLst/>
            </a:prstGeom>
            <a:gradFill rotWithShape="0">
              <a:gsLst>
                <a:gs pos="0">
                  <a:srgbClr val="fefe8d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219480" y="1111320"/>
              <a:ext cx="5700600" cy="5184720"/>
              <a:chOff x="3219480" y="1111320"/>
              <a:chExt cx="5700600" cy="5184720"/>
            </a:xfrm>
          </p:grpSpPr>
          <p:sp>
            <p:nvSpPr>
              <p:cNvPr id="67" name=""/>
              <p:cNvSpPr/>
              <p:nvPr/>
            </p:nvSpPr>
            <p:spPr>
              <a:xfrm flipV="1">
                <a:off x="321948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378936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435924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492912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549900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606888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63732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20900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78032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835020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892008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15800" y="822240"/>
              <a:ext cx="9075960" cy="289080"/>
              <a:chOff x="415800" y="822240"/>
              <a:chExt cx="9075960" cy="289080"/>
            </a:xfrm>
          </p:grpSpPr>
          <p:sp>
            <p:nvSpPr>
              <p:cNvPr id="79" name=""/>
              <p:cNvSpPr/>
              <p:nvPr/>
            </p:nvSpPr>
            <p:spPr>
              <a:xfrm>
                <a:off x="26496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2194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89360" y="822240"/>
                <a:ext cx="5716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6104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3092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008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0706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64056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0440" y="822240"/>
                <a:ext cx="57132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781760" y="822240"/>
                <a:ext cx="57024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520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9218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5800" y="822240"/>
                <a:ext cx="2233800" cy="289080"/>
              </a:xfrm>
              <a:prstGeom prst="rect">
                <a:avLst/>
              </a:pr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作業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415800" y="822240"/>
              <a:ext cx="9074160" cy="5472360"/>
            </a:xfrm>
            <a:prstGeom prst="rect">
              <a:avLst/>
            </a:prstGeom>
            <a:noFill/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49600" y="838080"/>
              <a:ext cx="0" cy="54705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15800" y="1847880"/>
              <a:ext cx="9087120" cy="3691080"/>
              <a:chOff x="415800" y="1847880"/>
              <a:chExt cx="9087120" cy="3691080"/>
            </a:xfrm>
          </p:grpSpPr>
          <p:sp>
            <p:nvSpPr>
              <p:cNvPr id="95" name=""/>
              <p:cNvSpPr/>
              <p:nvPr/>
            </p:nvSpPr>
            <p:spPr>
              <a:xfrm>
                <a:off x="415800" y="259092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5800" y="407664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5800" y="184788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7600" y="333360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5800" y="553896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5800" y="479592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649600" y="800280"/>
              <a:ext cx="0" cy="55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649600" y="4400640"/>
            <a:ext cx="684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49600" y="3681360"/>
            <a:ext cx="684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49600" y="5842080"/>
            <a:ext cx="684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122800"/>
            <a:ext cx="684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0" y="2995560"/>
            <a:ext cx="684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49600" y="2276640"/>
            <a:ext cx="684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9600" y="1484280"/>
            <a:ext cx="68403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15800" y="5516640"/>
            <a:ext cx="90741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作業スケジュールと担当者（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年）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"/>
          <p:cNvSpPr/>
          <p:nvPr/>
        </p:nvSpPr>
        <p:spPr>
          <a:xfrm>
            <a:off x="2720160" y="51264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担当者に自分の作業区分とパートナーを分かりやすくするスケジュール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5800" y="1111320"/>
            <a:ext cx="2233800" cy="74916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800" y="1866960"/>
            <a:ext cx="2233800" cy="74124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800" y="2606760"/>
            <a:ext cx="2233800" cy="74592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5800" y="3352680"/>
            <a:ext cx="2233800" cy="74304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5800" y="4094280"/>
            <a:ext cx="2233800" cy="71892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5800" y="4813200"/>
            <a:ext cx="2233800" cy="72396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5800" y="836640"/>
            <a:ext cx="9087120" cy="4720320"/>
            <a:chOff x="415800" y="836640"/>
            <a:chExt cx="9087120" cy="4720320"/>
          </a:xfrm>
        </p:grpSpPr>
        <p:grpSp>
          <p:nvGrpSpPr>
            <p:cNvPr id="119" name=""/>
            <p:cNvGrpSpPr/>
            <p:nvPr/>
          </p:nvGrpSpPr>
          <p:grpSpPr>
            <a:xfrm>
              <a:off x="415800" y="839520"/>
              <a:ext cx="9087120" cy="4717440"/>
              <a:chOff x="415800" y="839520"/>
              <a:chExt cx="9087120" cy="4717440"/>
            </a:xfrm>
          </p:grpSpPr>
          <p:sp>
            <p:nvSpPr>
              <p:cNvPr id="120" name=""/>
              <p:cNvSpPr/>
              <p:nvPr/>
            </p:nvSpPr>
            <p:spPr>
              <a:xfrm>
                <a:off x="2649600" y="1128240"/>
                <a:ext cx="6840360" cy="4428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3219480" y="1128240"/>
                <a:ext cx="5700600" cy="4422240"/>
                <a:chOff x="3219480" y="1128240"/>
                <a:chExt cx="5700600" cy="4422240"/>
              </a:xfrm>
            </p:grpSpPr>
            <p:sp>
              <p:nvSpPr>
                <p:cNvPr id="122" name=""/>
                <p:cNvSpPr/>
                <p:nvPr/>
              </p:nvSpPr>
              <p:spPr>
                <a:xfrm flipV="1">
                  <a:off x="321948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378936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435924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492912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549900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606888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663732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720900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778032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835020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8920080" y="1128240"/>
                  <a:ext cx="0" cy="4422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15800" y="839520"/>
                <a:ext cx="9075960" cy="288720"/>
                <a:chOff x="415800" y="839520"/>
                <a:chExt cx="9075960" cy="288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649600" y="839520"/>
                  <a:ext cx="5698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219480" y="839520"/>
                  <a:ext cx="5698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789360" y="839520"/>
                  <a:ext cx="5716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361040" y="839520"/>
                  <a:ext cx="5698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930920" y="839520"/>
                  <a:ext cx="5698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500800" y="839520"/>
                  <a:ext cx="5698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070680" y="839520"/>
                  <a:ext cx="5698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640560" y="839520"/>
                  <a:ext cx="5698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210440" y="839520"/>
                  <a:ext cx="57132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839520"/>
                  <a:ext cx="57024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352000" y="839520"/>
                  <a:ext cx="5698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921880" y="839520"/>
                  <a:ext cx="569880" cy="28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eb342"/>
                    </a:gs>
                    <a:gs pos="100000">
                      <a:srgbClr val="ff9900"/>
                    </a:gs>
                  </a:gsLst>
                  <a:lin ang="5400000"/>
                </a:gra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15800" y="839520"/>
                  <a:ext cx="2233800" cy="2887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ffffff"/>
                      </a:solidFill>
                      <a:latin typeface="メイリオ"/>
                      <a:ea typeface="メイリオ"/>
                    </a:rPr>
                    <a:t>作業内容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415800" y="839520"/>
                <a:ext cx="9074160" cy="4713120"/>
              </a:xfrm>
              <a:prstGeom prst="rect">
                <a:avLst/>
              </a:prstGeom>
              <a:noFill/>
              <a:ln w="255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5800" y="260784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5800" y="409356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5800" y="186480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7600" y="335052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5800" y="481284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649600" y="836640"/>
              <a:ext cx="0" cy="47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31800" y="6165720"/>
            <a:ext cx="190440" cy="404640"/>
            <a:chOff x="631800" y="6165720"/>
            <a:chExt cx="190440" cy="404640"/>
          </a:xfrm>
        </p:grpSpPr>
        <p:sp>
          <p:nvSpPr>
            <p:cNvPr id="155" name=""/>
            <p:cNvSpPr/>
            <p:nvPr/>
          </p:nvSpPr>
          <p:spPr>
            <a:xfrm>
              <a:off x="631800" y="635616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7920" y="6165720"/>
              <a:ext cx="178200" cy="178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800" y="6332040"/>
              <a:ext cx="190440" cy="1548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4960" y="634428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6840" y="617760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31800" y="5678640"/>
            <a:ext cx="190440" cy="403200"/>
            <a:chOff x="631800" y="5678640"/>
            <a:chExt cx="190440" cy="403200"/>
          </a:xfrm>
        </p:grpSpPr>
        <p:sp>
          <p:nvSpPr>
            <p:cNvPr id="161" name=""/>
            <p:cNvSpPr/>
            <p:nvPr/>
          </p:nvSpPr>
          <p:spPr>
            <a:xfrm>
              <a:off x="631800" y="5868360"/>
              <a:ext cx="190440" cy="213480"/>
            </a:xfrm>
            <a:prstGeom prst="can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7920" y="5678640"/>
              <a:ext cx="178200" cy="1778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1800" y="5844240"/>
              <a:ext cx="190440" cy="154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4960" y="5856480"/>
              <a:ext cx="9432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6840" y="569052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96880" y="6165720"/>
            <a:ext cx="190800" cy="404640"/>
            <a:chOff x="1496880" y="6165720"/>
            <a:chExt cx="190800" cy="404640"/>
          </a:xfrm>
        </p:grpSpPr>
        <p:sp>
          <p:nvSpPr>
            <p:cNvPr id="167" name=""/>
            <p:cNvSpPr/>
            <p:nvPr/>
          </p:nvSpPr>
          <p:spPr>
            <a:xfrm>
              <a:off x="1496880" y="6356160"/>
              <a:ext cx="190800" cy="214200"/>
            </a:xfrm>
            <a:prstGeom prst="can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000" y="6165720"/>
              <a:ext cx="178560" cy="178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96880" y="6332040"/>
              <a:ext cx="190800" cy="154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80400" y="6344280"/>
              <a:ext cx="9468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91920" y="6177600"/>
              <a:ext cx="7092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96880" y="5678640"/>
            <a:ext cx="190800" cy="403200"/>
            <a:chOff x="1496880" y="5678640"/>
            <a:chExt cx="190800" cy="403200"/>
          </a:xfrm>
        </p:grpSpPr>
        <p:sp>
          <p:nvSpPr>
            <p:cNvPr id="173" name=""/>
            <p:cNvSpPr/>
            <p:nvPr/>
          </p:nvSpPr>
          <p:spPr>
            <a:xfrm>
              <a:off x="1496880" y="5868360"/>
              <a:ext cx="190800" cy="213480"/>
            </a:xfrm>
            <a:prstGeom prst="can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03000" y="5678640"/>
              <a:ext cx="178560" cy="1778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96880" y="5844240"/>
              <a:ext cx="190800" cy="154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0400" y="5856480"/>
              <a:ext cx="9468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91920" y="5690520"/>
              <a:ext cx="7092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287440" y="6165720"/>
            <a:ext cx="190800" cy="404640"/>
            <a:chOff x="2287440" y="6165720"/>
            <a:chExt cx="190800" cy="404640"/>
          </a:xfrm>
        </p:grpSpPr>
        <p:sp>
          <p:nvSpPr>
            <p:cNvPr id="179" name=""/>
            <p:cNvSpPr/>
            <p:nvPr/>
          </p:nvSpPr>
          <p:spPr>
            <a:xfrm>
              <a:off x="2287440" y="6356160"/>
              <a:ext cx="190800" cy="214200"/>
            </a:xfrm>
            <a:prstGeom prst="can">
              <a:avLst>
                <a:gd name="adj" fmla="val 5000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93560" y="6165720"/>
              <a:ext cx="178560" cy="1785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7440" y="6332040"/>
              <a:ext cx="190800" cy="154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70960" y="6344280"/>
              <a:ext cx="9468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82480" y="6177600"/>
              <a:ext cx="7092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87440" y="5678640"/>
            <a:ext cx="190800" cy="403200"/>
            <a:chOff x="2287440" y="5678640"/>
            <a:chExt cx="190800" cy="403200"/>
          </a:xfrm>
        </p:grpSpPr>
        <p:sp>
          <p:nvSpPr>
            <p:cNvPr id="185" name=""/>
            <p:cNvSpPr/>
            <p:nvPr/>
          </p:nvSpPr>
          <p:spPr>
            <a:xfrm>
              <a:off x="2287440" y="5868360"/>
              <a:ext cx="190800" cy="21348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3560" y="5678640"/>
              <a:ext cx="178560" cy="1778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7440" y="5844240"/>
              <a:ext cx="190800" cy="154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70960" y="5856480"/>
              <a:ext cx="9468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82480" y="5690520"/>
              <a:ext cx="7092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152880" y="6165720"/>
            <a:ext cx="190440" cy="404640"/>
            <a:chOff x="3152880" y="6165720"/>
            <a:chExt cx="190440" cy="404640"/>
          </a:xfrm>
        </p:grpSpPr>
        <p:sp>
          <p:nvSpPr>
            <p:cNvPr id="191" name=""/>
            <p:cNvSpPr/>
            <p:nvPr/>
          </p:nvSpPr>
          <p:spPr>
            <a:xfrm>
              <a:off x="3152880" y="635616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59000" y="6165720"/>
              <a:ext cx="178200" cy="1785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52880" y="6332040"/>
              <a:ext cx="190440" cy="1548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36040" y="634428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47920" y="617760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152880" y="5678640"/>
            <a:ext cx="190440" cy="403200"/>
            <a:chOff x="3152880" y="5678640"/>
            <a:chExt cx="190440" cy="403200"/>
          </a:xfrm>
        </p:grpSpPr>
        <p:sp>
          <p:nvSpPr>
            <p:cNvPr id="197" name=""/>
            <p:cNvSpPr/>
            <p:nvPr/>
          </p:nvSpPr>
          <p:spPr>
            <a:xfrm>
              <a:off x="3152880" y="5868360"/>
              <a:ext cx="190440" cy="213480"/>
            </a:xfrm>
            <a:prstGeom prst="can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59000" y="5678640"/>
              <a:ext cx="17820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52880" y="5844240"/>
              <a:ext cx="190440" cy="154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36040" y="5856480"/>
              <a:ext cx="9432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7920" y="569052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81600" y="6202440"/>
            <a:ext cx="190440" cy="404640"/>
            <a:chOff x="3981600" y="6202440"/>
            <a:chExt cx="190440" cy="404640"/>
          </a:xfrm>
        </p:grpSpPr>
        <p:sp>
          <p:nvSpPr>
            <p:cNvPr id="203" name=""/>
            <p:cNvSpPr/>
            <p:nvPr/>
          </p:nvSpPr>
          <p:spPr>
            <a:xfrm>
              <a:off x="3981600" y="639288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87720" y="6202440"/>
              <a:ext cx="178200" cy="178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81600" y="6368760"/>
              <a:ext cx="190440" cy="1548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64760" y="638064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76640" y="621432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81600" y="5680080"/>
            <a:ext cx="190440" cy="403200"/>
            <a:chOff x="3981600" y="5680080"/>
            <a:chExt cx="190440" cy="403200"/>
          </a:xfrm>
        </p:grpSpPr>
        <p:sp>
          <p:nvSpPr>
            <p:cNvPr id="209" name=""/>
            <p:cNvSpPr/>
            <p:nvPr/>
          </p:nvSpPr>
          <p:spPr>
            <a:xfrm>
              <a:off x="3981600" y="5869800"/>
              <a:ext cx="190440" cy="213480"/>
            </a:xfrm>
            <a:prstGeom prst="can">
              <a:avLst>
                <a:gd name="adj" fmla="val 50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87720" y="5680080"/>
              <a:ext cx="178200" cy="1778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81600" y="5845680"/>
              <a:ext cx="190440" cy="15408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4760" y="5857920"/>
              <a:ext cx="9432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76640" y="569196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859320" y="5697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Ａ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08560" y="5713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Ｂ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0560" y="5713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Ｃ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66000" y="5713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Ｄ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2920" y="5713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Ｅ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59320" y="6208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Ｆ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08560" y="6208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Ｇ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0560" y="6208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Ｈ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66000" y="6208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Ｉ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62085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Ｊ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4880" y="1233360"/>
            <a:ext cx="190440" cy="404640"/>
            <a:chOff x="3044880" y="1233360"/>
            <a:chExt cx="190440" cy="404640"/>
          </a:xfrm>
        </p:grpSpPr>
        <p:sp>
          <p:nvSpPr>
            <p:cNvPr id="225" name=""/>
            <p:cNvSpPr/>
            <p:nvPr/>
          </p:nvSpPr>
          <p:spPr>
            <a:xfrm>
              <a:off x="3044880" y="142380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51000" y="1233360"/>
              <a:ext cx="178200" cy="178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4880" y="1399680"/>
              <a:ext cx="190440" cy="1548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8040" y="141192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39920" y="124524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757600" y="1233360"/>
            <a:ext cx="190440" cy="403200"/>
            <a:chOff x="2757600" y="1233360"/>
            <a:chExt cx="190440" cy="403200"/>
          </a:xfrm>
        </p:grpSpPr>
        <p:sp>
          <p:nvSpPr>
            <p:cNvPr id="231" name=""/>
            <p:cNvSpPr/>
            <p:nvPr/>
          </p:nvSpPr>
          <p:spPr>
            <a:xfrm>
              <a:off x="2757600" y="1423080"/>
              <a:ext cx="190440" cy="213480"/>
            </a:xfrm>
            <a:prstGeom prst="can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63720" y="1233360"/>
              <a:ext cx="178200" cy="1778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57600" y="1398960"/>
              <a:ext cx="190440" cy="154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0760" y="1411200"/>
              <a:ext cx="9432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52640" y="124524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97240" y="1233360"/>
            <a:ext cx="190440" cy="404640"/>
            <a:chOff x="3297240" y="1233360"/>
            <a:chExt cx="190440" cy="404640"/>
          </a:xfrm>
        </p:grpSpPr>
        <p:sp>
          <p:nvSpPr>
            <p:cNvPr id="237" name=""/>
            <p:cNvSpPr/>
            <p:nvPr/>
          </p:nvSpPr>
          <p:spPr>
            <a:xfrm>
              <a:off x="3297240" y="142380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3360" y="1233360"/>
              <a:ext cx="178200" cy="178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97240" y="1399680"/>
              <a:ext cx="190440" cy="154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80400" y="141192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92280" y="124524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548160" y="1233360"/>
            <a:ext cx="190440" cy="403200"/>
            <a:chOff x="3548160" y="1233360"/>
            <a:chExt cx="190440" cy="403200"/>
          </a:xfrm>
        </p:grpSpPr>
        <p:sp>
          <p:nvSpPr>
            <p:cNvPr id="243" name=""/>
            <p:cNvSpPr/>
            <p:nvPr/>
          </p:nvSpPr>
          <p:spPr>
            <a:xfrm>
              <a:off x="3548160" y="1423080"/>
              <a:ext cx="190440" cy="213480"/>
            </a:xfrm>
            <a:prstGeom prst="can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54280" y="1233360"/>
              <a:ext cx="178200" cy="1778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48160" y="1398960"/>
              <a:ext cx="190440" cy="154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31320" y="1411200"/>
              <a:ext cx="9432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43200" y="124524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024520" y="2673360"/>
            <a:ext cx="190440" cy="404640"/>
            <a:chOff x="5024520" y="2673360"/>
            <a:chExt cx="190440" cy="404640"/>
          </a:xfrm>
        </p:grpSpPr>
        <p:sp>
          <p:nvSpPr>
            <p:cNvPr id="249" name=""/>
            <p:cNvSpPr/>
            <p:nvPr/>
          </p:nvSpPr>
          <p:spPr>
            <a:xfrm>
              <a:off x="5024520" y="286380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30640" y="2673360"/>
              <a:ext cx="178200" cy="1782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4520" y="2839680"/>
              <a:ext cx="190440" cy="154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07680" y="285156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19560" y="268524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989600" y="1952640"/>
            <a:ext cx="190440" cy="403200"/>
            <a:chOff x="4989600" y="1952640"/>
            <a:chExt cx="190440" cy="403200"/>
          </a:xfrm>
        </p:grpSpPr>
        <p:sp>
          <p:nvSpPr>
            <p:cNvPr id="255" name=""/>
            <p:cNvSpPr/>
            <p:nvPr/>
          </p:nvSpPr>
          <p:spPr>
            <a:xfrm>
              <a:off x="4989600" y="2142360"/>
              <a:ext cx="190440" cy="21348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5720" y="1952640"/>
              <a:ext cx="178200" cy="1778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9600" y="2118240"/>
              <a:ext cx="190440" cy="154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2760" y="2130480"/>
              <a:ext cx="9432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84640" y="196452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140520" y="4149720"/>
            <a:ext cx="190440" cy="404640"/>
            <a:chOff x="6140520" y="4149720"/>
            <a:chExt cx="190440" cy="404640"/>
          </a:xfrm>
        </p:grpSpPr>
        <p:sp>
          <p:nvSpPr>
            <p:cNvPr id="261" name=""/>
            <p:cNvSpPr/>
            <p:nvPr/>
          </p:nvSpPr>
          <p:spPr>
            <a:xfrm>
              <a:off x="6140520" y="434016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46640" y="4149720"/>
              <a:ext cx="178200" cy="178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40520" y="4316040"/>
              <a:ext cx="190440" cy="1548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3680" y="432792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35560" y="416160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356520" y="4149720"/>
            <a:ext cx="190440" cy="403200"/>
            <a:chOff x="6356520" y="4149720"/>
            <a:chExt cx="190440" cy="403200"/>
          </a:xfrm>
        </p:grpSpPr>
        <p:sp>
          <p:nvSpPr>
            <p:cNvPr id="267" name=""/>
            <p:cNvSpPr/>
            <p:nvPr/>
          </p:nvSpPr>
          <p:spPr>
            <a:xfrm>
              <a:off x="6356520" y="4339440"/>
              <a:ext cx="190440" cy="213480"/>
            </a:xfrm>
            <a:prstGeom prst="can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62640" y="4149720"/>
              <a:ext cx="178200" cy="17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6520" y="4315320"/>
              <a:ext cx="190440" cy="154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39680" y="4327560"/>
              <a:ext cx="9432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51560" y="416160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093240" y="4869000"/>
            <a:ext cx="190440" cy="404640"/>
            <a:chOff x="9093240" y="4869000"/>
            <a:chExt cx="190440" cy="404640"/>
          </a:xfrm>
        </p:grpSpPr>
        <p:sp>
          <p:nvSpPr>
            <p:cNvPr id="273" name=""/>
            <p:cNvSpPr/>
            <p:nvPr/>
          </p:nvSpPr>
          <p:spPr>
            <a:xfrm>
              <a:off x="9093240" y="505944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099360" y="4869000"/>
              <a:ext cx="178200" cy="178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093240" y="5035320"/>
              <a:ext cx="190440" cy="1548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176400" y="504720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88280" y="488088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140520" y="3429000"/>
            <a:ext cx="190440" cy="403200"/>
            <a:chOff x="6140520" y="3429000"/>
            <a:chExt cx="190440" cy="403200"/>
          </a:xfrm>
        </p:grpSpPr>
        <p:sp>
          <p:nvSpPr>
            <p:cNvPr id="279" name=""/>
            <p:cNvSpPr/>
            <p:nvPr/>
          </p:nvSpPr>
          <p:spPr>
            <a:xfrm>
              <a:off x="6140520" y="3618720"/>
              <a:ext cx="190440" cy="213480"/>
            </a:xfrm>
            <a:prstGeom prst="can">
              <a:avLst>
                <a:gd name="adj" fmla="val 50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46640" y="3429000"/>
              <a:ext cx="178200" cy="1778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40520" y="3594600"/>
              <a:ext cx="190440" cy="15408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3680" y="3606840"/>
              <a:ext cx="9432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35560" y="344088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649600" y="1700280"/>
            <a:ext cx="1690560" cy="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0160" y="2421000"/>
            <a:ext cx="1690920" cy="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40160" y="3176640"/>
            <a:ext cx="2881440" cy="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68880" y="3897360"/>
            <a:ext cx="2881440" cy="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68880" y="4616280"/>
            <a:ext cx="2881440" cy="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913960" y="5373720"/>
            <a:ext cx="539640" cy="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737240" y="1952640"/>
            <a:ext cx="190440" cy="404640"/>
            <a:chOff x="4737240" y="1952640"/>
            <a:chExt cx="190440" cy="404640"/>
          </a:xfrm>
        </p:grpSpPr>
        <p:sp>
          <p:nvSpPr>
            <p:cNvPr id="291" name=""/>
            <p:cNvSpPr/>
            <p:nvPr/>
          </p:nvSpPr>
          <p:spPr>
            <a:xfrm>
              <a:off x="4737240" y="214308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43360" y="1952640"/>
              <a:ext cx="178200" cy="1782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37240" y="2118960"/>
              <a:ext cx="190440" cy="1548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20400" y="213084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32280" y="196452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449600" y="1952640"/>
            <a:ext cx="190800" cy="403200"/>
            <a:chOff x="4449600" y="1952640"/>
            <a:chExt cx="190800" cy="403200"/>
          </a:xfrm>
        </p:grpSpPr>
        <p:sp>
          <p:nvSpPr>
            <p:cNvPr id="297" name=""/>
            <p:cNvSpPr/>
            <p:nvPr/>
          </p:nvSpPr>
          <p:spPr>
            <a:xfrm>
              <a:off x="4449600" y="2142360"/>
              <a:ext cx="190800" cy="213480"/>
            </a:xfrm>
            <a:prstGeom prst="can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5720" y="1952640"/>
              <a:ext cx="178560" cy="1778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49600" y="2118240"/>
              <a:ext cx="190800" cy="154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33120" y="2130480"/>
              <a:ext cx="9468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640" y="1964520"/>
              <a:ext cx="7092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486320" y="2673360"/>
            <a:ext cx="190440" cy="404640"/>
            <a:chOff x="4486320" y="2673360"/>
            <a:chExt cx="190440" cy="404640"/>
          </a:xfrm>
        </p:grpSpPr>
        <p:sp>
          <p:nvSpPr>
            <p:cNvPr id="303" name=""/>
            <p:cNvSpPr/>
            <p:nvPr/>
          </p:nvSpPr>
          <p:spPr>
            <a:xfrm>
              <a:off x="4486320" y="286380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92440" y="2673360"/>
              <a:ext cx="178200" cy="178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86320" y="2839680"/>
              <a:ext cx="190440" cy="154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69480" y="285156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81360" y="268524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737240" y="2673360"/>
            <a:ext cx="190440" cy="403200"/>
            <a:chOff x="4737240" y="2673360"/>
            <a:chExt cx="190440" cy="403200"/>
          </a:xfrm>
        </p:grpSpPr>
        <p:sp>
          <p:nvSpPr>
            <p:cNvPr id="309" name=""/>
            <p:cNvSpPr/>
            <p:nvPr/>
          </p:nvSpPr>
          <p:spPr>
            <a:xfrm>
              <a:off x="4737240" y="2863080"/>
              <a:ext cx="190440" cy="213480"/>
            </a:xfrm>
            <a:prstGeom prst="can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43360" y="2673360"/>
              <a:ext cx="178200" cy="1778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37240" y="2838960"/>
              <a:ext cx="190440" cy="154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20400" y="2851200"/>
              <a:ext cx="9432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2280" y="268524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670800" y="3429000"/>
            <a:ext cx="190440" cy="404640"/>
            <a:chOff x="6670800" y="3429000"/>
            <a:chExt cx="190440" cy="404640"/>
          </a:xfrm>
        </p:grpSpPr>
        <p:sp>
          <p:nvSpPr>
            <p:cNvPr id="315" name=""/>
            <p:cNvSpPr/>
            <p:nvPr/>
          </p:nvSpPr>
          <p:spPr>
            <a:xfrm>
              <a:off x="6670800" y="3619440"/>
              <a:ext cx="190440" cy="214200"/>
            </a:xfrm>
            <a:prstGeom prst="can">
              <a:avLst>
                <a:gd name="adj" fmla="val 5000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76920" y="3429000"/>
              <a:ext cx="178200" cy="1782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70800" y="3595320"/>
              <a:ext cx="190440" cy="154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53960" y="3607200"/>
              <a:ext cx="9432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65840" y="3440880"/>
              <a:ext cx="7056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383160" y="3429000"/>
            <a:ext cx="190800" cy="403200"/>
            <a:chOff x="6383160" y="3429000"/>
            <a:chExt cx="190800" cy="403200"/>
          </a:xfrm>
        </p:grpSpPr>
        <p:sp>
          <p:nvSpPr>
            <p:cNvPr id="321" name=""/>
            <p:cNvSpPr/>
            <p:nvPr/>
          </p:nvSpPr>
          <p:spPr>
            <a:xfrm>
              <a:off x="6383160" y="3618720"/>
              <a:ext cx="190800" cy="213480"/>
            </a:xfrm>
            <a:prstGeom prst="can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89280" y="3429000"/>
              <a:ext cx="178560" cy="1778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83160" y="3594600"/>
              <a:ext cx="190800" cy="154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66680" y="3606840"/>
              <a:ext cx="94680" cy="9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78200" y="3440880"/>
              <a:ext cx="70920" cy="7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作業スケジュールと優先度（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年）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15800" y="836640"/>
            <a:ext cx="9075960" cy="5473800"/>
            <a:chOff x="415800" y="836640"/>
            <a:chExt cx="9075960" cy="5473800"/>
          </a:xfrm>
        </p:grpSpPr>
        <p:grpSp>
          <p:nvGrpSpPr>
            <p:cNvPr id="328" name=""/>
            <p:cNvGrpSpPr/>
            <p:nvPr/>
          </p:nvGrpSpPr>
          <p:grpSpPr>
            <a:xfrm>
              <a:off x="1281240" y="836640"/>
              <a:ext cx="8208720" cy="5186160"/>
              <a:chOff x="1281240" y="836640"/>
              <a:chExt cx="8208720" cy="5186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281240" y="836640"/>
                <a:ext cx="8208720" cy="5186160"/>
              </a:xfrm>
              <a:prstGeom prst="rect">
                <a:avLst/>
              </a:prstGeom>
              <a:gradFill rotWithShape="0">
                <a:gsLst>
                  <a:gs pos="0">
                    <a:srgbClr val="e2e2e2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96524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64960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3216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01652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70052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538488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06744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675324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43904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812160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8805960" y="83664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415800" y="6021360"/>
              <a:ext cx="9075960" cy="289080"/>
              <a:chOff x="415800" y="6021360"/>
              <a:chExt cx="9075960" cy="289080"/>
            </a:xfrm>
          </p:grpSpPr>
          <p:sp>
            <p:nvSpPr>
              <p:cNvPr id="342" name=""/>
              <p:cNvSpPr/>
              <p:nvPr/>
            </p:nvSpPr>
            <p:spPr>
              <a:xfrm>
                <a:off x="1281240" y="6021360"/>
                <a:ext cx="68400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5240" y="6021360"/>
                <a:ext cx="68436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49600" y="6021360"/>
                <a:ext cx="68400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33600" y="6021360"/>
                <a:ext cx="68436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17960" y="6021360"/>
                <a:ext cx="68436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02320" y="6021360"/>
                <a:ext cx="68400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86320" y="6021360"/>
                <a:ext cx="68436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70680" y="6021360"/>
                <a:ext cx="68400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54680" y="6021360"/>
                <a:ext cx="68436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39040" y="6021360"/>
                <a:ext cx="68436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23400" y="6021360"/>
                <a:ext cx="68400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807400" y="6021360"/>
                <a:ext cx="68436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5800" y="6021360"/>
                <a:ext cx="865440" cy="2890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0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15800" y="836640"/>
              <a:ext cx="865440" cy="5184720"/>
              <a:chOff x="415800" y="836640"/>
              <a:chExt cx="865440" cy="518472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415800" y="836640"/>
                <a:ext cx="865440" cy="5184360"/>
                <a:chOff x="415800" y="836640"/>
                <a:chExt cx="865440" cy="5184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15800" y="836640"/>
                  <a:ext cx="865440" cy="172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15800" y="2564640"/>
                  <a:ext cx="865440" cy="172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15800" y="4293000"/>
                  <a:ext cx="865440" cy="172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 flipV="1">
                <a:off x="1281240" y="836640"/>
                <a:ext cx="0" cy="518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531720" y="5738760"/>
                <a:ext cx="569160" cy="276480"/>
                <a:chOff x="531720" y="5738760"/>
                <a:chExt cx="569160" cy="276480"/>
              </a:xfrm>
            </p:grpSpPr>
            <p:sp>
              <p:nvSpPr>
                <p:cNvPr id="362" name=""/>
                <p:cNvSpPr/>
                <p:nvPr/>
              </p:nvSpPr>
              <p:spPr>
                <a:xfrm rot="10800000">
                  <a:off x="531720" y="5784480"/>
                  <a:ext cx="179280" cy="181080"/>
                </a:xfrm>
                <a:prstGeom prst="upArrow">
                  <a:avLst>
                    <a:gd name="adj1" fmla="val 34509"/>
                    <a:gd name="adj2" fmla="val 44465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37280" y="573876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Arial"/>
                      <a:ea typeface="メイリオ"/>
                    </a:rPr>
                    <a:t>低い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531720" y="873000"/>
                <a:ext cx="569160" cy="276480"/>
                <a:chOff x="531720" y="873000"/>
                <a:chExt cx="569160" cy="276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31720" y="919080"/>
                  <a:ext cx="179280" cy="181080"/>
                </a:xfrm>
                <a:prstGeom prst="upArrow">
                  <a:avLst>
                    <a:gd name="adj1" fmla="val 34509"/>
                    <a:gd name="adj2" fmla="val 44465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37280" y="87300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Arial"/>
                      <a:ea typeface="メイリオ"/>
                    </a:rPr>
                    <a:t>高い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>
              <a:off x="415800" y="836640"/>
              <a:ext cx="9074160" cy="5472000"/>
            </a:xfrm>
            <a:prstGeom prst="rect">
              <a:avLst/>
            </a:prstGeom>
            <a:noFill/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0840" y="301716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優先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81240" y="3419640"/>
              <a:ext cx="820872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81240" y="4710240"/>
              <a:ext cx="820872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81240" y="2127240"/>
              <a:ext cx="820872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148120" y="5126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一目で作業優先度がわかるようにするためのスケジュール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52520" y="944640"/>
            <a:ext cx="1260360" cy="10792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1" y="0"/>
                </a:lnTo>
                <a:lnTo>
                  <a:pt x="21600" y="10800"/>
                </a:lnTo>
                <a:lnTo>
                  <a:pt x="19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20880" y="2205000"/>
            <a:ext cx="1260720" cy="1079640"/>
          </a:xfrm>
          <a:custGeom>
            <a:avLst/>
            <a:gdLst>
              <a:gd name="textAreaLeft" fmla="*/ 0 w 1260720"/>
              <a:gd name="textAreaRight" fmla="*/ 1261080 w 126072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1" y="0"/>
                </a:lnTo>
                <a:lnTo>
                  <a:pt x="21600" y="10800"/>
                </a:lnTo>
                <a:lnTo>
                  <a:pt x="19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89240" y="3537000"/>
            <a:ext cx="1260720" cy="1079280"/>
          </a:xfrm>
          <a:custGeom>
            <a:avLst/>
            <a:gdLst>
              <a:gd name="textAreaLeft" fmla="*/ 0 w 1260720"/>
              <a:gd name="textAreaRight" fmla="*/ 1261080 w 126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1" y="0"/>
                </a:lnTo>
                <a:lnTo>
                  <a:pt x="21600" y="10800"/>
                </a:lnTo>
                <a:lnTo>
                  <a:pt x="19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57960" y="4834080"/>
            <a:ext cx="1260360" cy="10792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1" y="0"/>
                </a:lnTo>
                <a:lnTo>
                  <a:pt x="21600" y="10800"/>
                </a:lnTo>
                <a:lnTo>
                  <a:pt x="19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73600" y="944640"/>
            <a:ext cx="1908360" cy="107928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1" y="0"/>
                </a:lnTo>
                <a:lnTo>
                  <a:pt x="21600" y="10800"/>
                </a:lnTo>
                <a:lnTo>
                  <a:pt x="19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40520" y="2241720"/>
            <a:ext cx="1260360" cy="10792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1" y="0"/>
                </a:lnTo>
                <a:lnTo>
                  <a:pt x="21600" y="10800"/>
                </a:lnTo>
                <a:lnTo>
                  <a:pt x="19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36880" y="3537000"/>
            <a:ext cx="1260360" cy="10792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1" y="0"/>
                </a:lnTo>
                <a:lnTo>
                  <a:pt x="21600" y="10800"/>
                </a:lnTo>
                <a:lnTo>
                  <a:pt x="19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52520" y="4834080"/>
            <a:ext cx="612720" cy="1079280"/>
          </a:xfrm>
          <a:custGeom>
            <a:avLst/>
            <a:gdLst>
              <a:gd name="textAreaLeft" fmla="*/ 0 w 612720"/>
              <a:gd name="textAreaRight" fmla="*/ 613080 w 612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1" y="0"/>
                </a:lnTo>
                <a:lnTo>
                  <a:pt x="21600" y="10800"/>
                </a:lnTo>
                <a:lnTo>
                  <a:pt x="19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40520" y="3537000"/>
            <a:ext cx="576360" cy="1079280"/>
          </a:xfrm>
          <a:custGeom>
            <a:avLst/>
            <a:gdLst>
              <a:gd name="textAreaLeft" fmla="*/ 0 w 576360"/>
              <a:gd name="textAreaRight" fmla="*/ 576720 w 5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80" y="0"/>
                </a:lnTo>
                <a:lnTo>
                  <a:pt x="21600" y="10800"/>
                </a:lnTo>
                <a:lnTo>
                  <a:pt x="167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03440" y="1052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作業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メイリオ"/>
              </a:rPr>
              <a:t>２月１０日完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22640" y="101592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作業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70280" y="227808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作業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91360" y="231300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作業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51000" y="360828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作業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38640" y="364500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作業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07000" y="494172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作業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54640" y="357336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作業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67000" y="490536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作業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作業スケジュールと必要人数（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年）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2" name=""/>
          <p:cNvSpPr/>
          <p:nvPr/>
        </p:nvSpPr>
        <p:spPr>
          <a:xfrm>
            <a:off x="2034360" y="51264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作業人月を分かりやすく見せるスケジュールと表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15800" y="822240"/>
            <a:ext cx="9087120" cy="5486400"/>
            <a:chOff x="415800" y="822240"/>
            <a:chExt cx="9087120" cy="5486400"/>
          </a:xfrm>
        </p:grpSpPr>
        <p:sp>
          <p:nvSpPr>
            <p:cNvPr id="394" name=""/>
            <p:cNvSpPr/>
            <p:nvPr/>
          </p:nvSpPr>
          <p:spPr>
            <a:xfrm>
              <a:off x="415800" y="4724280"/>
              <a:ext cx="2233800" cy="1584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合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49600" y="1111320"/>
              <a:ext cx="6840360" cy="5186160"/>
            </a:xfrm>
            <a:prstGeom prst="rect">
              <a:avLst/>
            </a:prstGeom>
            <a:gradFill rotWithShape="0">
              <a:gsLst>
                <a:gs pos="0">
                  <a:srgbClr val="e2e2e2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3219480" y="1111320"/>
              <a:ext cx="5700600" cy="5184720"/>
              <a:chOff x="3219480" y="1111320"/>
              <a:chExt cx="5700600" cy="5184720"/>
            </a:xfrm>
          </p:grpSpPr>
          <p:sp>
            <p:nvSpPr>
              <p:cNvPr id="397" name=""/>
              <p:cNvSpPr/>
              <p:nvPr/>
            </p:nvSpPr>
            <p:spPr>
              <a:xfrm flipV="1">
                <a:off x="321948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378936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435924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492912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549900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606888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663732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20900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78032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835020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8920080" y="1111320"/>
                <a:ext cx="0" cy="518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415800" y="822240"/>
              <a:ext cx="9075960" cy="289080"/>
              <a:chOff x="415800" y="822240"/>
              <a:chExt cx="9075960" cy="289080"/>
            </a:xfrm>
          </p:grpSpPr>
          <p:sp>
            <p:nvSpPr>
              <p:cNvPr id="409" name=""/>
              <p:cNvSpPr/>
              <p:nvPr/>
            </p:nvSpPr>
            <p:spPr>
              <a:xfrm>
                <a:off x="26496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194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89360" y="822240"/>
                <a:ext cx="5716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6104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93092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008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706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4056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210440" y="822240"/>
                <a:ext cx="57132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81760" y="822240"/>
                <a:ext cx="57024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520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9218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81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800" y="822240"/>
                <a:ext cx="2233800" cy="2890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作業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15800" y="822240"/>
              <a:ext cx="9074160" cy="5472360"/>
            </a:xfrm>
            <a:prstGeom prst="rect">
              <a:avLst/>
            </a:prstGeom>
            <a:noFill/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5800" y="1111320"/>
              <a:ext cx="2233800" cy="720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作業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5800" y="1828800"/>
              <a:ext cx="2233800" cy="722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作業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5800" y="2548080"/>
              <a:ext cx="2233800" cy="723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作業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5800" y="3271680"/>
              <a:ext cx="2233800" cy="727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作業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5800" y="3995640"/>
              <a:ext cx="2233800" cy="723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メイリオ"/>
                </a:rPr>
                <a:t>作業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415800" y="1828800"/>
              <a:ext cx="9087120" cy="2895480"/>
              <a:chOff x="415800" y="1828800"/>
              <a:chExt cx="9087120" cy="2895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15800" y="2552760"/>
                <a:ext cx="90853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15800" y="4000320"/>
                <a:ext cx="90853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15800" y="1828800"/>
                <a:ext cx="90853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7600" y="3276360"/>
                <a:ext cx="90853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7600" y="4724280"/>
                <a:ext cx="908532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2649600" y="838080"/>
              <a:ext cx="0" cy="54705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720880" y="1449360"/>
            <a:ext cx="101520" cy="216000"/>
            <a:chOff x="2720880" y="1449360"/>
            <a:chExt cx="101520" cy="216000"/>
          </a:xfrm>
        </p:grpSpPr>
        <p:sp>
          <p:nvSpPr>
            <p:cNvPr id="436" name=""/>
            <p:cNvSpPr/>
            <p:nvPr/>
          </p:nvSpPr>
          <p:spPr>
            <a:xfrm>
              <a:off x="2720880" y="155088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24120" y="144936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20880" y="153828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65160" y="154440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71280" y="145548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684520" y="1736640"/>
            <a:ext cx="1655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376880" y="2384280"/>
            <a:ext cx="1655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45240" y="4616280"/>
            <a:ext cx="2844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52880" y="3105000"/>
            <a:ext cx="165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865600" y="1449360"/>
            <a:ext cx="101520" cy="216000"/>
            <a:chOff x="2865600" y="1449360"/>
            <a:chExt cx="101520" cy="216000"/>
          </a:xfrm>
        </p:grpSpPr>
        <p:sp>
          <p:nvSpPr>
            <p:cNvPr id="446" name=""/>
            <p:cNvSpPr/>
            <p:nvPr/>
          </p:nvSpPr>
          <p:spPr>
            <a:xfrm>
              <a:off x="2865600" y="155088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68840" y="144936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65600" y="153828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09880" y="154440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16000" y="145548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014640" y="1449360"/>
            <a:ext cx="101520" cy="216000"/>
            <a:chOff x="3014640" y="1449360"/>
            <a:chExt cx="101520" cy="216000"/>
          </a:xfrm>
        </p:grpSpPr>
        <p:sp>
          <p:nvSpPr>
            <p:cNvPr id="452" name=""/>
            <p:cNvSpPr/>
            <p:nvPr/>
          </p:nvSpPr>
          <p:spPr>
            <a:xfrm>
              <a:off x="3014640" y="155088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17880" y="144936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14640" y="153828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58920" y="154440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65040" y="145548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290760" y="1449360"/>
            <a:ext cx="101880" cy="216000"/>
            <a:chOff x="3290760" y="1449360"/>
            <a:chExt cx="101880" cy="216000"/>
          </a:xfrm>
        </p:grpSpPr>
        <p:sp>
          <p:nvSpPr>
            <p:cNvPr id="458" name=""/>
            <p:cNvSpPr/>
            <p:nvPr/>
          </p:nvSpPr>
          <p:spPr>
            <a:xfrm>
              <a:off x="3290760" y="1550880"/>
              <a:ext cx="10188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94000" y="1449360"/>
              <a:ext cx="9540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90760" y="1538280"/>
              <a:ext cx="10188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35400" y="154440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41520" y="145548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435480" y="1449360"/>
            <a:ext cx="101520" cy="216000"/>
            <a:chOff x="3435480" y="1449360"/>
            <a:chExt cx="101520" cy="216000"/>
          </a:xfrm>
        </p:grpSpPr>
        <p:sp>
          <p:nvSpPr>
            <p:cNvPr id="464" name=""/>
            <p:cNvSpPr/>
            <p:nvPr/>
          </p:nvSpPr>
          <p:spPr>
            <a:xfrm>
              <a:off x="3435480" y="155088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38720" y="144936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5480" y="153828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79760" y="154440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85880" y="145548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84520" y="1449360"/>
            <a:ext cx="101520" cy="216000"/>
            <a:chOff x="3584520" y="1449360"/>
            <a:chExt cx="101520" cy="216000"/>
          </a:xfrm>
        </p:grpSpPr>
        <p:sp>
          <p:nvSpPr>
            <p:cNvPr id="470" name=""/>
            <p:cNvSpPr/>
            <p:nvPr/>
          </p:nvSpPr>
          <p:spPr>
            <a:xfrm>
              <a:off x="3584520" y="155088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7760" y="144936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84520" y="153828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28800" y="154440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34920" y="145548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867120" y="1449360"/>
            <a:ext cx="101520" cy="216000"/>
            <a:chOff x="3867120" y="1449360"/>
            <a:chExt cx="101520" cy="216000"/>
          </a:xfrm>
        </p:grpSpPr>
        <p:sp>
          <p:nvSpPr>
            <p:cNvPr id="476" name=""/>
            <p:cNvSpPr/>
            <p:nvPr/>
          </p:nvSpPr>
          <p:spPr>
            <a:xfrm>
              <a:off x="3867120" y="155088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70360" y="144936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67120" y="153828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11400" y="154440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17520" y="145548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516560" y="2097000"/>
            <a:ext cx="101520" cy="216000"/>
            <a:chOff x="4516560" y="2097000"/>
            <a:chExt cx="101520" cy="216000"/>
          </a:xfrm>
        </p:grpSpPr>
        <p:sp>
          <p:nvSpPr>
            <p:cNvPr id="482" name=""/>
            <p:cNvSpPr/>
            <p:nvPr/>
          </p:nvSpPr>
          <p:spPr>
            <a:xfrm>
              <a:off x="4516560" y="2198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19800" y="2097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16560" y="2185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60840" y="2192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66960" y="2103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665600" y="2097000"/>
            <a:ext cx="101520" cy="216000"/>
            <a:chOff x="4665600" y="2097000"/>
            <a:chExt cx="101520" cy="216000"/>
          </a:xfrm>
        </p:grpSpPr>
        <p:sp>
          <p:nvSpPr>
            <p:cNvPr id="488" name=""/>
            <p:cNvSpPr/>
            <p:nvPr/>
          </p:nvSpPr>
          <p:spPr>
            <a:xfrm>
              <a:off x="4665600" y="2198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68840" y="2097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65600" y="2185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09880" y="2192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16000" y="2103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91120" y="2097000"/>
            <a:ext cx="101520" cy="216000"/>
            <a:chOff x="5091120" y="2097000"/>
            <a:chExt cx="101520" cy="216000"/>
          </a:xfrm>
        </p:grpSpPr>
        <p:sp>
          <p:nvSpPr>
            <p:cNvPr id="494" name=""/>
            <p:cNvSpPr/>
            <p:nvPr/>
          </p:nvSpPr>
          <p:spPr>
            <a:xfrm>
              <a:off x="5091120" y="2198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94360" y="2097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91120" y="2185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35400" y="2192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1520" y="2103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240160" y="2097000"/>
            <a:ext cx="101880" cy="216000"/>
            <a:chOff x="5240160" y="2097000"/>
            <a:chExt cx="101880" cy="216000"/>
          </a:xfrm>
        </p:grpSpPr>
        <p:sp>
          <p:nvSpPr>
            <p:cNvPr id="500" name=""/>
            <p:cNvSpPr/>
            <p:nvPr/>
          </p:nvSpPr>
          <p:spPr>
            <a:xfrm>
              <a:off x="5240160" y="2198520"/>
              <a:ext cx="10188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43400" y="2097000"/>
              <a:ext cx="9540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40160" y="2185920"/>
              <a:ext cx="10188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84800" y="2192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90920" y="2103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708520" y="2097000"/>
            <a:ext cx="101880" cy="216000"/>
            <a:chOff x="5708520" y="2097000"/>
            <a:chExt cx="101880" cy="216000"/>
          </a:xfrm>
        </p:grpSpPr>
        <p:sp>
          <p:nvSpPr>
            <p:cNvPr id="506" name=""/>
            <p:cNvSpPr/>
            <p:nvPr/>
          </p:nvSpPr>
          <p:spPr>
            <a:xfrm>
              <a:off x="5708520" y="2198520"/>
              <a:ext cx="10188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11760" y="2097000"/>
              <a:ext cx="9540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08520" y="2185920"/>
              <a:ext cx="10188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53160" y="2192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59280" y="2103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205240" y="2816280"/>
            <a:ext cx="101880" cy="216000"/>
            <a:chOff x="5205240" y="2816280"/>
            <a:chExt cx="101880" cy="216000"/>
          </a:xfrm>
        </p:grpSpPr>
        <p:sp>
          <p:nvSpPr>
            <p:cNvPr id="512" name=""/>
            <p:cNvSpPr/>
            <p:nvPr/>
          </p:nvSpPr>
          <p:spPr>
            <a:xfrm>
              <a:off x="5205240" y="2917800"/>
              <a:ext cx="10188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08480" y="2816280"/>
              <a:ext cx="9540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5240" y="2905200"/>
              <a:ext cx="10188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49880" y="291132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56000" y="282240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715000" y="2817720"/>
            <a:ext cx="101520" cy="216000"/>
            <a:chOff x="5715000" y="2817720"/>
            <a:chExt cx="101520" cy="216000"/>
          </a:xfrm>
        </p:grpSpPr>
        <p:sp>
          <p:nvSpPr>
            <p:cNvPr id="518" name=""/>
            <p:cNvSpPr/>
            <p:nvPr/>
          </p:nvSpPr>
          <p:spPr>
            <a:xfrm>
              <a:off x="5715000" y="291924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8240" y="281772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15000" y="290664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59280" y="291276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65400" y="282384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56440" y="2817720"/>
            <a:ext cx="101520" cy="216000"/>
            <a:chOff x="6256440" y="2817720"/>
            <a:chExt cx="101520" cy="216000"/>
          </a:xfrm>
        </p:grpSpPr>
        <p:sp>
          <p:nvSpPr>
            <p:cNvPr id="524" name=""/>
            <p:cNvSpPr/>
            <p:nvPr/>
          </p:nvSpPr>
          <p:spPr>
            <a:xfrm>
              <a:off x="6256440" y="291924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59680" y="281772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56440" y="290664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00720" y="291276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06840" y="282384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680160" y="4329000"/>
            <a:ext cx="101520" cy="216000"/>
            <a:chOff x="6680160" y="4329000"/>
            <a:chExt cx="101520" cy="216000"/>
          </a:xfrm>
        </p:grpSpPr>
        <p:sp>
          <p:nvSpPr>
            <p:cNvPr id="530" name=""/>
            <p:cNvSpPr/>
            <p:nvPr/>
          </p:nvSpPr>
          <p:spPr>
            <a:xfrm>
              <a:off x="668016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8340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8016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2444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3056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824520" y="4329000"/>
            <a:ext cx="101880" cy="216000"/>
            <a:chOff x="6824520" y="4329000"/>
            <a:chExt cx="101880" cy="216000"/>
          </a:xfrm>
        </p:grpSpPr>
        <p:sp>
          <p:nvSpPr>
            <p:cNvPr id="536" name=""/>
            <p:cNvSpPr/>
            <p:nvPr/>
          </p:nvSpPr>
          <p:spPr>
            <a:xfrm>
              <a:off x="6824520" y="4430520"/>
              <a:ext cx="10188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27760" y="4329000"/>
              <a:ext cx="9540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4520" y="4417920"/>
              <a:ext cx="10188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6916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7528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973920" y="4329000"/>
            <a:ext cx="101520" cy="216000"/>
            <a:chOff x="6973920" y="4329000"/>
            <a:chExt cx="101520" cy="216000"/>
          </a:xfrm>
        </p:grpSpPr>
        <p:sp>
          <p:nvSpPr>
            <p:cNvPr id="542" name=""/>
            <p:cNvSpPr/>
            <p:nvPr/>
          </p:nvSpPr>
          <p:spPr>
            <a:xfrm>
              <a:off x="697392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7716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392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1820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2432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294680" y="4329000"/>
            <a:ext cx="101520" cy="216000"/>
            <a:chOff x="7294680" y="4329000"/>
            <a:chExt cx="101520" cy="216000"/>
          </a:xfrm>
        </p:grpSpPr>
        <p:sp>
          <p:nvSpPr>
            <p:cNvPr id="548" name=""/>
            <p:cNvSpPr/>
            <p:nvPr/>
          </p:nvSpPr>
          <p:spPr>
            <a:xfrm>
              <a:off x="729468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9792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9468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3896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4508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439040" y="4329000"/>
            <a:ext cx="101520" cy="216000"/>
            <a:chOff x="7439040" y="4329000"/>
            <a:chExt cx="101520" cy="216000"/>
          </a:xfrm>
        </p:grpSpPr>
        <p:sp>
          <p:nvSpPr>
            <p:cNvPr id="554" name=""/>
            <p:cNvSpPr/>
            <p:nvPr/>
          </p:nvSpPr>
          <p:spPr>
            <a:xfrm>
              <a:off x="743904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228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3904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8332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8944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7588080" y="4329000"/>
            <a:ext cx="101880" cy="216000"/>
            <a:chOff x="7588080" y="4329000"/>
            <a:chExt cx="101880" cy="216000"/>
          </a:xfrm>
        </p:grpSpPr>
        <p:sp>
          <p:nvSpPr>
            <p:cNvPr id="560" name=""/>
            <p:cNvSpPr/>
            <p:nvPr/>
          </p:nvSpPr>
          <p:spPr>
            <a:xfrm>
              <a:off x="7588080" y="4430520"/>
              <a:ext cx="10188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91320" y="4329000"/>
              <a:ext cx="9540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88080" y="4417920"/>
              <a:ext cx="10188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3272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3884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7870680" y="4329000"/>
            <a:ext cx="101880" cy="216000"/>
            <a:chOff x="7870680" y="4329000"/>
            <a:chExt cx="101880" cy="216000"/>
          </a:xfrm>
        </p:grpSpPr>
        <p:sp>
          <p:nvSpPr>
            <p:cNvPr id="566" name=""/>
            <p:cNvSpPr/>
            <p:nvPr/>
          </p:nvSpPr>
          <p:spPr>
            <a:xfrm>
              <a:off x="7870680" y="4430520"/>
              <a:ext cx="10188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73920" y="4329000"/>
              <a:ext cx="9540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70680" y="4417920"/>
              <a:ext cx="10188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1532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2144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8015400" y="4329000"/>
            <a:ext cx="101520" cy="216000"/>
            <a:chOff x="8015400" y="4329000"/>
            <a:chExt cx="101520" cy="216000"/>
          </a:xfrm>
        </p:grpSpPr>
        <p:sp>
          <p:nvSpPr>
            <p:cNvPr id="572" name=""/>
            <p:cNvSpPr/>
            <p:nvPr/>
          </p:nvSpPr>
          <p:spPr>
            <a:xfrm>
              <a:off x="801540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1864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1540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5968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6580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164440" y="4329000"/>
            <a:ext cx="101520" cy="216000"/>
            <a:chOff x="8164440" y="4329000"/>
            <a:chExt cx="101520" cy="216000"/>
          </a:xfrm>
        </p:grpSpPr>
        <p:sp>
          <p:nvSpPr>
            <p:cNvPr id="578" name=""/>
            <p:cNvSpPr/>
            <p:nvPr/>
          </p:nvSpPr>
          <p:spPr>
            <a:xfrm>
              <a:off x="816444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6768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16444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0872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1484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8445600" y="4329000"/>
            <a:ext cx="101520" cy="216000"/>
            <a:chOff x="8445600" y="4329000"/>
            <a:chExt cx="101520" cy="216000"/>
          </a:xfrm>
        </p:grpSpPr>
        <p:sp>
          <p:nvSpPr>
            <p:cNvPr id="584" name=""/>
            <p:cNvSpPr/>
            <p:nvPr/>
          </p:nvSpPr>
          <p:spPr>
            <a:xfrm>
              <a:off x="844560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4884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44560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48988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49600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8589960" y="4329000"/>
            <a:ext cx="101520" cy="216000"/>
            <a:chOff x="8589960" y="4329000"/>
            <a:chExt cx="101520" cy="216000"/>
          </a:xfrm>
        </p:grpSpPr>
        <p:sp>
          <p:nvSpPr>
            <p:cNvPr id="590" name=""/>
            <p:cNvSpPr/>
            <p:nvPr/>
          </p:nvSpPr>
          <p:spPr>
            <a:xfrm>
              <a:off x="858996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9320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58996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3424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64036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8739360" y="4329000"/>
            <a:ext cx="101520" cy="216000"/>
            <a:chOff x="8739360" y="4329000"/>
            <a:chExt cx="101520" cy="216000"/>
          </a:xfrm>
        </p:grpSpPr>
        <p:sp>
          <p:nvSpPr>
            <p:cNvPr id="596" name=""/>
            <p:cNvSpPr/>
            <p:nvPr/>
          </p:nvSpPr>
          <p:spPr>
            <a:xfrm>
              <a:off x="873936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74260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73936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78364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78976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9021600" y="4329000"/>
            <a:ext cx="101880" cy="216000"/>
            <a:chOff x="9021600" y="4329000"/>
            <a:chExt cx="101880" cy="216000"/>
          </a:xfrm>
        </p:grpSpPr>
        <p:sp>
          <p:nvSpPr>
            <p:cNvPr id="602" name=""/>
            <p:cNvSpPr/>
            <p:nvPr/>
          </p:nvSpPr>
          <p:spPr>
            <a:xfrm>
              <a:off x="9021600" y="4430520"/>
              <a:ext cx="10188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024840" y="4329000"/>
              <a:ext cx="9540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021600" y="4417920"/>
              <a:ext cx="10188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06624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07236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9166320" y="4329000"/>
            <a:ext cx="101520" cy="216000"/>
            <a:chOff x="9166320" y="4329000"/>
            <a:chExt cx="101520" cy="216000"/>
          </a:xfrm>
        </p:grpSpPr>
        <p:sp>
          <p:nvSpPr>
            <p:cNvPr id="608" name=""/>
            <p:cNvSpPr/>
            <p:nvPr/>
          </p:nvSpPr>
          <p:spPr>
            <a:xfrm>
              <a:off x="916632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6956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16632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21060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21672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9315360" y="4329000"/>
            <a:ext cx="101520" cy="216000"/>
            <a:chOff x="9315360" y="4329000"/>
            <a:chExt cx="101520" cy="216000"/>
          </a:xfrm>
        </p:grpSpPr>
        <p:sp>
          <p:nvSpPr>
            <p:cNvPr id="614" name=""/>
            <p:cNvSpPr/>
            <p:nvPr/>
          </p:nvSpPr>
          <p:spPr>
            <a:xfrm>
              <a:off x="9315360" y="443052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318600" y="432900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315360" y="441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359640" y="442404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365760" y="433512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989600" y="3897360"/>
            <a:ext cx="1655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241960" y="3608280"/>
            <a:ext cx="101520" cy="216000"/>
            <a:chOff x="5241960" y="3608280"/>
            <a:chExt cx="101520" cy="216000"/>
          </a:xfrm>
        </p:grpSpPr>
        <p:sp>
          <p:nvSpPr>
            <p:cNvPr id="621" name=""/>
            <p:cNvSpPr/>
            <p:nvPr/>
          </p:nvSpPr>
          <p:spPr>
            <a:xfrm>
              <a:off x="5241960" y="370980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45200" y="360828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41960" y="369720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86240" y="370332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92360" y="361440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751360" y="3610080"/>
            <a:ext cx="101880" cy="215640"/>
            <a:chOff x="5751360" y="3610080"/>
            <a:chExt cx="101880" cy="215640"/>
          </a:xfrm>
        </p:grpSpPr>
        <p:sp>
          <p:nvSpPr>
            <p:cNvPr id="627" name=""/>
            <p:cNvSpPr/>
            <p:nvPr/>
          </p:nvSpPr>
          <p:spPr>
            <a:xfrm>
              <a:off x="5751360" y="3711600"/>
              <a:ext cx="101880" cy="11412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54600" y="3610080"/>
              <a:ext cx="9540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51360" y="3698640"/>
              <a:ext cx="10188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96000" y="370512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02120" y="3616200"/>
              <a:ext cx="37800" cy="3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292800" y="3610080"/>
            <a:ext cx="101520" cy="215640"/>
            <a:chOff x="6292800" y="3610080"/>
            <a:chExt cx="101520" cy="215640"/>
          </a:xfrm>
        </p:grpSpPr>
        <p:sp>
          <p:nvSpPr>
            <p:cNvPr id="633" name=""/>
            <p:cNvSpPr/>
            <p:nvPr/>
          </p:nvSpPr>
          <p:spPr>
            <a:xfrm>
              <a:off x="6292800" y="3711600"/>
              <a:ext cx="101520" cy="11412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96040" y="361008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92800" y="369864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37080" y="370512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43200" y="3616200"/>
              <a:ext cx="37800" cy="3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8626320" y="549360"/>
            <a:ext cx="101880" cy="215640"/>
            <a:chOff x="8626320" y="549360"/>
            <a:chExt cx="101880" cy="215640"/>
          </a:xfrm>
        </p:grpSpPr>
        <p:sp>
          <p:nvSpPr>
            <p:cNvPr id="639" name=""/>
            <p:cNvSpPr/>
            <p:nvPr/>
          </p:nvSpPr>
          <p:spPr>
            <a:xfrm>
              <a:off x="8626320" y="650880"/>
              <a:ext cx="101880" cy="114120"/>
            </a:xfrm>
            <a:prstGeom prst="can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629560" y="549360"/>
              <a:ext cx="95400" cy="950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626320" y="637920"/>
              <a:ext cx="101880" cy="824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70960" y="64440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77080" y="555480"/>
              <a:ext cx="37800" cy="3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7875720" y="549360"/>
            <a:ext cx="101520" cy="215640"/>
            <a:chOff x="7875720" y="549360"/>
            <a:chExt cx="101520" cy="215640"/>
          </a:xfrm>
        </p:grpSpPr>
        <p:sp>
          <p:nvSpPr>
            <p:cNvPr id="645" name=""/>
            <p:cNvSpPr/>
            <p:nvPr/>
          </p:nvSpPr>
          <p:spPr>
            <a:xfrm>
              <a:off x="7875720" y="650880"/>
              <a:ext cx="101520" cy="11412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78960" y="549360"/>
              <a:ext cx="95040" cy="95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75720" y="637920"/>
              <a:ext cx="101520" cy="8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20000" y="64440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26120" y="555480"/>
              <a:ext cx="37800" cy="3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985880" y="549360"/>
            <a:ext cx="5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=</a:t>
            </a:r>
            <a:r>
              <a:rPr b="1" lang="zh-CN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１人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736120" y="549360"/>
            <a:ext cx="70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=0</a:t>
            </a:r>
            <a:r>
              <a:rPr b="1" lang="zh-CN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･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5</a:t>
            </a:r>
            <a:r>
              <a:rPr b="1" lang="zh-CN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人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2649600" y="4724280"/>
          <a:ext cx="6834240" cy="72864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  <a:gridCol w="568440"/>
                <a:gridCol w="569880"/>
                <a:gridCol w="569880"/>
                <a:gridCol w="569880"/>
                <a:gridCol w="568440"/>
                <a:gridCol w="569880"/>
                <a:gridCol w="569880"/>
                <a:gridCol w="569880"/>
                <a:gridCol w="568440"/>
                <a:gridCol w="569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メイリオ"/>
                          <a:ea typeface="メイリオ"/>
                        </a:rPr>
                        <a:t>計３３人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53" name=""/>
          <p:cNvGrpSpPr/>
          <p:nvPr/>
        </p:nvGrpSpPr>
        <p:grpSpPr>
          <a:xfrm>
            <a:off x="7040520" y="555480"/>
            <a:ext cx="101520" cy="216000"/>
            <a:chOff x="7040520" y="555480"/>
            <a:chExt cx="101520" cy="216000"/>
          </a:xfrm>
        </p:grpSpPr>
        <p:sp>
          <p:nvSpPr>
            <p:cNvPr id="654" name=""/>
            <p:cNvSpPr/>
            <p:nvPr/>
          </p:nvSpPr>
          <p:spPr>
            <a:xfrm>
              <a:off x="7040520" y="657000"/>
              <a:ext cx="101520" cy="114480"/>
            </a:xfrm>
            <a:prstGeom prst="can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43760" y="555480"/>
              <a:ext cx="95040" cy="95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040520" y="644400"/>
              <a:ext cx="101520" cy="824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84800" y="650520"/>
              <a:ext cx="50400" cy="5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90920" y="561600"/>
              <a:ext cx="37800" cy="3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7132320" y="555480"/>
            <a:ext cx="64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=</a:t>
            </a:r>
            <a:r>
              <a:rPr b="1" lang="zh-CN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１</a:t>
            </a: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</a:t>
            </a:r>
            <a:r>
              <a:rPr b="1" lang="zh-CN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人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647800" y="1104840"/>
            <a:ext cx="6842160" cy="52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649600" y="1104840"/>
            <a:ext cx="1727280" cy="739800"/>
          </a:xfrm>
          <a:prstGeom prst="rect">
            <a:avLst/>
          </a:prstGeom>
          <a:gradFill rotWithShape="0">
            <a:gsLst>
              <a:gs pos="0">
                <a:srgbClr val="fefe8d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649600" y="1857240"/>
            <a:ext cx="3419280" cy="739800"/>
          </a:xfrm>
          <a:prstGeom prst="rect">
            <a:avLst/>
          </a:prstGeom>
          <a:gradFill rotWithShape="0">
            <a:gsLst>
              <a:gs pos="0">
                <a:srgbClr val="fefe8d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72120" y="3333600"/>
            <a:ext cx="1689120" cy="739800"/>
          </a:xfrm>
          <a:prstGeom prst="rect">
            <a:avLst/>
          </a:prstGeom>
          <a:gradFill rotWithShape="0">
            <a:gsLst>
              <a:gs pos="0">
                <a:srgbClr val="fefe8d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49600" y="2590920"/>
            <a:ext cx="2266920" cy="739800"/>
          </a:xfrm>
          <a:prstGeom prst="rect">
            <a:avLst/>
          </a:prstGeom>
          <a:gradFill rotWithShape="0">
            <a:gsLst>
              <a:gs pos="0">
                <a:srgbClr val="fefe8d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91080" y="4791240"/>
            <a:ext cx="3378240" cy="739440"/>
          </a:xfrm>
          <a:prstGeom prst="rect">
            <a:avLst/>
          </a:prstGeom>
          <a:gradFill rotWithShape="0">
            <a:gsLst>
              <a:gs pos="0">
                <a:srgbClr val="fefe8d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72120" y="4057560"/>
            <a:ext cx="1149480" cy="739800"/>
          </a:xfrm>
          <a:prstGeom prst="rect">
            <a:avLst/>
          </a:prstGeom>
          <a:gradFill rotWithShape="0">
            <a:gsLst>
              <a:gs pos="0">
                <a:srgbClr val="fefe8d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767720" y="5524560"/>
            <a:ext cx="1149120" cy="768240"/>
          </a:xfrm>
          <a:prstGeom prst="rect">
            <a:avLst/>
          </a:prstGeom>
          <a:gradFill rotWithShape="0">
            <a:gsLst>
              <a:gs pos="0">
                <a:srgbClr val="fefe8d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作業スケジュールと達成状況（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年）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9" name=""/>
          <p:cNvSpPr/>
          <p:nvPr/>
        </p:nvSpPr>
        <p:spPr>
          <a:xfrm>
            <a:off x="1424880" y="51264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シンプルな作業スケジュール表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15800" y="1111320"/>
            <a:ext cx="2233800" cy="73980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5800" y="1847880"/>
            <a:ext cx="2233800" cy="74124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15800" y="2585880"/>
            <a:ext cx="2233800" cy="74304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15800" y="3328920"/>
            <a:ext cx="2233800" cy="74628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15800" y="4071960"/>
            <a:ext cx="2233800" cy="74124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5800" y="4795920"/>
            <a:ext cx="2233800" cy="74124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15800" y="5533920"/>
            <a:ext cx="2233800" cy="74304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15800" y="800280"/>
            <a:ext cx="9087120" cy="5508360"/>
            <a:chOff x="415800" y="800280"/>
            <a:chExt cx="9087120" cy="5508360"/>
          </a:xfrm>
        </p:grpSpPr>
        <p:grpSp>
          <p:nvGrpSpPr>
            <p:cNvPr id="678" name=""/>
            <p:cNvGrpSpPr/>
            <p:nvPr/>
          </p:nvGrpSpPr>
          <p:grpSpPr>
            <a:xfrm>
              <a:off x="3219480" y="1111320"/>
              <a:ext cx="5700600" cy="5184720"/>
              <a:chOff x="3219480" y="1111320"/>
              <a:chExt cx="5700600" cy="5184720"/>
            </a:xfrm>
          </p:grpSpPr>
          <p:sp>
            <p:nvSpPr>
              <p:cNvPr id="679" name=""/>
              <p:cNvSpPr/>
              <p:nvPr/>
            </p:nvSpPr>
            <p:spPr>
              <a:xfrm flipV="1">
                <a:off x="321948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378936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435924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492912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549900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606888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663732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720900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778032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835020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892008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15800" y="822240"/>
              <a:ext cx="9075960" cy="289080"/>
              <a:chOff x="415800" y="822240"/>
              <a:chExt cx="9075960" cy="289080"/>
            </a:xfrm>
          </p:grpSpPr>
          <p:sp>
            <p:nvSpPr>
              <p:cNvPr id="691" name=""/>
              <p:cNvSpPr/>
              <p:nvPr/>
            </p:nvSpPr>
            <p:spPr>
              <a:xfrm>
                <a:off x="26496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2194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789360" y="822240"/>
                <a:ext cx="5716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36104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93092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008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706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64056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10440" y="822240"/>
                <a:ext cx="57132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81760" y="822240"/>
                <a:ext cx="57024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3520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9218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5800" y="822240"/>
                <a:ext cx="2233800" cy="289080"/>
              </a:xfrm>
              <a:prstGeom prst="rect">
                <a:avLst/>
              </a:pr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作業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415800" y="822240"/>
              <a:ext cx="9074160" cy="5472360"/>
            </a:xfrm>
            <a:prstGeom prst="rect">
              <a:avLst/>
            </a:prstGeom>
            <a:noFill/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49600" y="838080"/>
              <a:ext cx="0" cy="54705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15800" y="1847880"/>
              <a:ext cx="9087120" cy="3691080"/>
              <a:chOff x="415800" y="1847880"/>
              <a:chExt cx="9087120" cy="3691080"/>
            </a:xfrm>
          </p:grpSpPr>
          <p:sp>
            <p:nvSpPr>
              <p:cNvPr id="707" name=""/>
              <p:cNvSpPr/>
              <p:nvPr/>
            </p:nvSpPr>
            <p:spPr>
              <a:xfrm>
                <a:off x="415800" y="259092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15800" y="407664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5800" y="184788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7600" y="333360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15800" y="553896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15800" y="479592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2649600" y="800280"/>
              <a:ext cx="0" cy="55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6068880" y="4400640"/>
            <a:ext cx="3421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068880" y="3681360"/>
            <a:ext cx="3421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797960" y="5913360"/>
            <a:ext cx="1692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92880" y="5122800"/>
            <a:ext cx="3997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49600" y="2995560"/>
            <a:ext cx="51116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649600" y="2276640"/>
            <a:ext cx="34192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649600" y="1484280"/>
            <a:ext cx="34192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024520" y="584280"/>
            <a:ext cx="5396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13600" y="441360"/>
            <a:ext cx="468360" cy="307800"/>
          </a:xfrm>
          <a:prstGeom prst="rect">
            <a:avLst/>
          </a:prstGeom>
          <a:gradFill rotWithShape="0">
            <a:gsLst>
              <a:gs pos="0">
                <a:srgbClr val="fefe8d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728400" y="4762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=</a:t>
            </a:r>
            <a:r>
              <a:rPr b="1" lang="zh-CN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達成状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20320" y="476280"/>
            <a:ext cx="43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=</a:t>
            </a:r>
            <a:r>
              <a:rPr b="1" lang="zh-CN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予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2647800" y="1104840"/>
            <a:ext cx="6842160" cy="52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842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作業スケジュールと進捗率（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年）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27" name=""/>
          <p:cNvSpPr/>
          <p:nvPr/>
        </p:nvSpPr>
        <p:spPr>
          <a:xfrm>
            <a:off x="1424880" y="51264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シンプルな作業スケジュール表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15800" y="1111320"/>
            <a:ext cx="2233800" cy="73980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15800" y="1847880"/>
            <a:ext cx="2233800" cy="74124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5800" y="2585880"/>
            <a:ext cx="2233800" cy="74304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15800" y="3328920"/>
            <a:ext cx="2233800" cy="74628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15800" y="4071960"/>
            <a:ext cx="2233800" cy="74124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15800" y="4795920"/>
            <a:ext cx="2233800" cy="741240"/>
          </a:xfrm>
          <a:prstGeom prst="rect">
            <a:avLst/>
          </a:prstGeom>
          <a:gradFill rotWithShape="0">
            <a:gsLst>
              <a:gs pos="0">
                <a:srgbClr val="f2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作業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15800" y="5533920"/>
            <a:ext cx="2233800" cy="763560"/>
          </a:xfrm>
          <a:prstGeom prst="rect">
            <a:avLst/>
          </a:prstGeom>
          <a:gradFill rotWithShape="0">
            <a:gsLst>
              <a:gs pos="0">
                <a:srgbClr val="fedba8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メイリオ"/>
              </a:rPr>
              <a:t>合計進捗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15800" y="800280"/>
            <a:ext cx="9087120" cy="5508360"/>
            <a:chOff x="415800" y="800280"/>
            <a:chExt cx="9087120" cy="5508360"/>
          </a:xfrm>
        </p:grpSpPr>
        <p:grpSp>
          <p:nvGrpSpPr>
            <p:cNvPr id="736" name=""/>
            <p:cNvGrpSpPr/>
            <p:nvPr/>
          </p:nvGrpSpPr>
          <p:grpSpPr>
            <a:xfrm>
              <a:off x="3219480" y="1111320"/>
              <a:ext cx="5700600" cy="5184720"/>
              <a:chOff x="3219480" y="1111320"/>
              <a:chExt cx="5700600" cy="518472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321948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378936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435924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492912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49900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06888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663732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20900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78032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835020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8920080" y="1111320"/>
                <a:ext cx="0" cy="51847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415800" y="822240"/>
              <a:ext cx="9075960" cy="289080"/>
              <a:chOff x="415800" y="822240"/>
              <a:chExt cx="9075960" cy="289080"/>
            </a:xfrm>
          </p:grpSpPr>
          <p:sp>
            <p:nvSpPr>
              <p:cNvPr id="749" name=""/>
              <p:cNvSpPr/>
              <p:nvPr/>
            </p:nvSpPr>
            <p:spPr>
              <a:xfrm>
                <a:off x="26496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2194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789360" y="822240"/>
                <a:ext cx="5716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6104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93092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008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0706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4056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210440" y="822240"/>
                <a:ext cx="57132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1760" y="822240"/>
                <a:ext cx="57024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5200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921880" y="822240"/>
                <a:ext cx="569880" cy="287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eb342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5800" y="822240"/>
                <a:ext cx="2233800" cy="289080"/>
              </a:xfrm>
              <a:prstGeom prst="rect">
                <a:avLst/>
              </a:pr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メイリオ"/>
                    <a:ea typeface="メイリオ"/>
                  </a:rPr>
                  <a:t>作業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415800" y="822240"/>
              <a:ext cx="9074160" cy="5472360"/>
            </a:xfrm>
            <a:prstGeom prst="rect">
              <a:avLst/>
            </a:prstGeom>
            <a:noFill/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649600" y="838080"/>
              <a:ext cx="0" cy="54705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415800" y="1847880"/>
              <a:ext cx="9087120" cy="3691080"/>
              <a:chOff x="415800" y="1847880"/>
              <a:chExt cx="9087120" cy="3691080"/>
            </a:xfrm>
          </p:grpSpPr>
          <p:sp>
            <p:nvSpPr>
              <p:cNvPr id="765" name=""/>
              <p:cNvSpPr/>
              <p:nvPr/>
            </p:nvSpPr>
            <p:spPr>
              <a:xfrm>
                <a:off x="415800" y="259092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5800" y="407664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5800" y="184788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17600" y="333360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5800" y="553896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15800" y="4795920"/>
                <a:ext cx="90853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2649600" y="800280"/>
              <a:ext cx="0" cy="55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728400" y="4762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=</a:t>
            </a:r>
            <a:r>
              <a:rPr b="1" lang="zh-CN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達成状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20320" y="476280"/>
            <a:ext cx="43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=</a:t>
            </a:r>
            <a:r>
              <a:rPr b="1" lang="zh-CN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予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649600" y="5697360"/>
            <a:ext cx="6804000" cy="432000"/>
          </a:xfrm>
          <a:prstGeom prst="rect">
            <a:avLst/>
          </a:prstGeom>
          <a:solidFill>
            <a:srgbClr val="969696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49600" y="1268280"/>
            <a:ext cx="1690560" cy="432000"/>
          </a:xfrm>
          <a:prstGeom prst="rect">
            <a:avLst/>
          </a:prstGeom>
          <a:solidFill>
            <a:srgbClr val="969696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49600" y="2023920"/>
            <a:ext cx="3995640" cy="432000"/>
          </a:xfrm>
          <a:prstGeom prst="rect">
            <a:avLst/>
          </a:prstGeom>
          <a:solidFill>
            <a:srgbClr val="969696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00520" y="2744640"/>
            <a:ext cx="3995640" cy="432000"/>
          </a:xfrm>
          <a:prstGeom prst="rect">
            <a:avLst/>
          </a:prstGeom>
          <a:solidFill>
            <a:srgbClr val="969696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492880" y="3500280"/>
            <a:ext cx="2303280" cy="432000"/>
          </a:xfrm>
          <a:prstGeom prst="rect">
            <a:avLst/>
          </a:prstGeom>
          <a:solidFill>
            <a:srgbClr val="969696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84880" y="4221000"/>
            <a:ext cx="1189080" cy="432000"/>
          </a:xfrm>
          <a:prstGeom prst="rect">
            <a:avLst/>
          </a:prstGeom>
          <a:solidFill>
            <a:srgbClr val="969696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337600" y="4976640"/>
            <a:ext cx="1116000" cy="432000"/>
          </a:xfrm>
          <a:prstGeom prst="rect">
            <a:avLst/>
          </a:prstGeom>
          <a:solidFill>
            <a:srgbClr val="969696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649600" y="5697360"/>
            <a:ext cx="2266920" cy="432000"/>
          </a:xfrm>
          <a:prstGeom prst="rect">
            <a:avLst/>
          </a:prstGeom>
          <a:solidFill>
            <a:srgbClr val="ff00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649600" y="1268280"/>
            <a:ext cx="1690560" cy="432000"/>
          </a:xfrm>
          <a:prstGeom prst="rect">
            <a:avLst/>
          </a:prstGeom>
          <a:solidFill>
            <a:srgbClr val="00ff00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649600" y="2023920"/>
            <a:ext cx="2266920" cy="432000"/>
          </a:xfrm>
          <a:prstGeom prst="rect">
            <a:avLst/>
          </a:prstGeom>
          <a:solidFill>
            <a:srgbClr val="00ff00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765600" y="2744640"/>
            <a:ext cx="1150920" cy="432000"/>
          </a:xfrm>
          <a:prstGeom prst="rect">
            <a:avLst/>
          </a:prstGeom>
          <a:solidFill>
            <a:srgbClr val="00ff00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4880" y="404640"/>
            <a:ext cx="397080" cy="360360"/>
          </a:xfrm>
          <a:prstGeom prst="rect">
            <a:avLst/>
          </a:prstGeom>
          <a:solidFill>
            <a:srgbClr val="00ff00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240160" y="404640"/>
            <a:ext cx="397080" cy="360360"/>
          </a:xfrm>
          <a:prstGeom prst="rect">
            <a:avLst/>
          </a:prstGeom>
          <a:solidFill>
            <a:srgbClr val="969696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/>
  <dcterms:modified xsi:type="dcterms:W3CDTF">2011-01-16T12:37:53Z</dcterms:modified>
  <cp:revision>17</cp:revision>
  <dc:subject>作業スケジュール</dc:subject>
  <dc:title>作業スケジュール</dc:title>
</cp:coreProperties>
</file>